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1E9-B573-48E3-89EC-A856F299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080-11AC-4224-9366-3E38D68E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D37-4039-4300-A675-571786AA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0C2-50D1-46B1-8849-BB6ACC14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FD1-8C53-4D81-803A-2DF8241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95C-E0CC-459A-90EA-E4195029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B9D-49A4-4E35-A913-ADE43BE7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F9F-E0CA-48C3-AC8D-22FB08E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1B0-497E-4C76-9C03-68CF881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632-9185-456F-829C-49AC2FA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95A-3720-4AA3-89D7-0C5C204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B0D-51B1-449A-8F6B-8F582F5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5ABE-F831-4752-A8F3-90DCDA7E9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ministración G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mac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cepción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609480"/>
            <a:ext cx="457200" cy="38124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gramación Sector solici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990720"/>
            <a:ext cx="381240" cy="30456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3"/>
            <a:endCxn id="51" idx="2"/>
          </p:cNvCxnSpPr>
          <p:nvPr/>
        </p:nvCxnSpPr>
        <p:spPr>
          <a:xfrm flipV="1">
            <a:off x="3733920" y="960840"/>
            <a:ext cx="1371960" cy="182520"/>
          </a:xfrm>
          <a:prstGeom prst="bentConnector4">
            <a:avLst>
              <a:gd name="adj1" fmla="val 41679"/>
              <a:gd name="adj2" fmla="val -42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7696080" y="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609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querimiento Interno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1" idx="1"/>
          </p:cNvCxnSpPr>
          <p:nvPr/>
        </p:nvCxnSpPr>
        <p:spPr>
          <a:xfrm flipH="1">
            <a:off x="2438280" y="800280"/>
            <a:ext cx="2439000" cy="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685800"/>
            <a:ext cx="380880" cy="30492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447920"/>
            <a:ext cx="304920" cy="30456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3" idx="2"/>
            <a:endCxn id="61" idx="0"/>
          </p:cNvCxnSpPr>
          <p:nvPr/>
        </p:nvCxnSpPr>
        <p:spPr>
          <a:xfrm>
            <a:off x="3543480" y="1277280"/>
            <a:ext cx="3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3352680" y="1523880"/>
            <a:ext cx="381240" cy="30492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057400"/>
            <a:ext cx="38124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1" idx="4"/>
            <a:endCxn id="62" idx="0"/>
          </p:cNvCxnSpPr>
          <p:nvPr/>
        </p:nvCxnSpPr>
        <p:spPr>
          <a:xfrm>
            <a:off x="3543480" y="182880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3809880" y="2362320"/>
            <a:ext cx="234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edido de Cotización - Pendiente de Coti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2438280"/>
            <a:ext cx="38124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971800"/>
            <a:ext cx="304920" cy="30492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2" idx="2"/>
            <a:endCxn id="66" idx="0"/>
          </p:cNvCxnSpPr>
          <p:nvPr/>
        </p:nvCxnSpPr>
        <p:spPr>
          <a:xfrm>
            <a:off x="3543480" y="2408400"/>
            <a:ext cx="38520" cy="56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4952880" y="14479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971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2971800"/>
            <a:ext cx="38124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429000"/>
            <a:ext cx="380880" cy="3808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3213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t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962520"/>
            <a:ext cx="380880" cy="30456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1" idx="2"/>
            <a:endCxn id="73" idx="0"/>
          </p:cNvCxnSpPr>
          <p:nvPr/>
        </p:nvCxnSpPr>
        <p:spPr>
          <a:xfrm>
            <a:off x="3619440" y="3787560"/>
            <a:ext cx="36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3429000" y="4495680"/>
            <a:ext cx="380880" cy="38124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4"/>
            <a:endCxn id="75" idx="0"/>
          </p:cNvCxnSpPr>
          <p:nvPr/>
        </p:nvCxnSpPr>
        <p:spPr>
          <a:xfrm>
            <a:off x="3619440" y="42670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1" idx="0"/>
            <a:endCxn id="69" idx="2"/>
          </p:cNvCxnSpPr>
          <p:nvPr/>
        </p:nvCxnSpPr>
        <p:spPr>
          <a:xfrm flipH="1" flipV="1">
            <a:off x="3581280" y="3248280"/>
            <a:ext cx="38520" cy="18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8229600" y="5486400"/>
            <a:ext cx="38088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304920" cy="30456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334120"/>
            <a:ext cx="38088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410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5486400"/>
            <a:ext cx="38088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5" idx="1"/>
          </p:cNvCxnSpPr>
          <p:nvPr/>
        </p:nvCxnSpPr>
        <p:spPr>
          <a:xfrm flipV="1" rot="10800000">
            <a:off x="342360" y="4686120"/>
            <a:ext cx="3086640" cy="343440"/>
          </a:xfrm>
          <a:prstGeom prst="bentConnector3">
            <a:avLst>
              <a:gd name="adj1" fmla="val 53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0" idx="2"/>
            <a:endCxn id="71" idx="3"/>
          </p:cNvCxnSpPr>
          <p:nvPr/>
        </p:nvCxnSpPr>
        <p:spPr>
          <a:xfrm rot="5400000">
            <a:off x="5896440" y="1172160"/>
            <a:ext cx="361080" cy="453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2" idx="3"/>
            <a:endCxn id="65" idx="0"/>
          </p:cNvCxnSpPr>
          <p:nvPr/>
        </p:nvCxnSpPr>
        <p:spPr>
          <a:xfrm>
            <a:off x="3733920" y="2247840"/>
            <a:ext cx="4610520" cy="190800"/>
          </a:xfrm>
          <a:prstGeom prst="bentConnector4">
            <a:avLst>
              <a:gd name="adj1" fmla="val 47930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51" idx="2"/>
          </p:cNvCxnSpPr>
          <p:nvPr/>
        </p:nvCxnSpPr>
        <p:spPr>
          <a:xfrm>
            <a:off x="5105520" y="960840"/>
            <a:ext cx="720" cy="10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51" idx="2"/>
            <a:endCxn id="68" idx="0"/>
          </p:cNvCxnSpPr>
          <p:nvPr/>
        </p:nvCxnSpPr>
        <p:spPr>
          <a:xfrm rot="5400000">
            <a:off x="4861440" y="1204200"/>
            <a:ext cx="487440" cy="720"/>
          </a:xfrm>
          <a:prstGeom prst="bentConnector3">
            <a:avLst>
              <a:gd name="adj1" fmla="val 534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28600" y="4800600"/>
            <a:ext cx="38088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75" idx="2"/>
          </p:cNvCxnSpPr>
          <p:nvPr/>
        </p:nvCxnSpPr>
        <p:spPr>
          <a:xfrm flipV="1">
            <a:off x="609480" y="4847040"/>
            <a:ext cx="3010320" cy="144360"/>
          </a:xfrm>
          <a:prstGeom prst="bentConnector4">
            <a:avLst>
              <a:gd name="adj1" fmla="val 46848"/>
              <a:gd name="adj2" fmla="val -80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228600" y="56386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304920" cy="30492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6386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9" idx="2"/>
            <a:endCxn id="93" idx="0"/>
          </p:cNvCxnSpPr>
          <p:nvPr/>
        </p:nvCxnSpPr>
        <p:spPr>
          <a:xfrm flipH="1">
            <a:off x="380880" y="5151600"/>
            <a:ext cx="38520" cy="48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1" idx="2"/>
            <a:endCxn id="81" idx="0"/>
          </p:cNvCxnSpPr>
          <p:nvPr/>
        </p:nvCxnSpPr>
        <p:spPr>
          <a:xfrm flipH="1" rot="16200000">
            <a:off x="2979720" y="4427280"/>
            <a:ext cx="1622880" cy="343080"/>
          </a:xfrm>
          <a:prstGeom prst="bentConnector3">
            <a:avLst>
              <a:gd name="adj1" fmla="val 50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80" idx="0"/>
          </p:cNvCxnSpPr>
          <p:nvPr/>
        </p:nvCxnSpPr>
        <p:spPr>
          <a:xfrm>
            <a:off x="3809880" y="4686480"/>
            <a:ext cx="114840" cy="64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83" idx="0"/>
          </p:cNvCxnSpPr>
          <p:nvPr/>
        </p:nvCxnSpPr>
        <p:spPr>
          <a:xfrm>
            <a:off x="3809880" y="4686480"/>
            <a:ext cx="3086640" cy="800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8" idx="0"/>
          </p:cNvCxnSpPr>
          <p:nvPr/>
        </p:nvCxnSpPr>
        <p:spPr>
          <a:xfrm>
            <a:off x="3809880" y="4686480"/>
            <a:ext cx="4610520" cy="800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3924360" y="39337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rden de Compra pendiente de aprob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78" idx="2"/>
            <a:endCxn id="79" idx="0"/>
          </p:cNvCxnSpPr>
          <p:nvPr/>
        </p:nvCxnSpPr>
        <p:spPr>
          <a:xfrm rot="5400000">
            <a:off x="5610600" y="3439440"/>
            <a:ext cx="475560" cy="5143680"/>
          </a:xfrm>
          <a:prstGeom prst="bentConnector5">
            <a:avLst>
              <a:gd name="adj1" fmla="val 52575"/>
              <a:gd name="adj2" fmla="val 50339"/>
              <a:gd name="adj3" fmla="val 512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705720" y="64008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6400800"/>
            <a:ext cx="304560" cy="30492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83" idx="2"/>
            <a:endCxn id="102" idx="0"/>
          </p:cNvCxnSpPr>
          <p:nvPr/>
        </p:nvCxnSpPr>
        <p:spPr>
          <a:xfrm flipH="1">
            <a:off x="6858000" y="5773320"/>
            <a:ext cx="3852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8088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5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98100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31417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edido de Cotización - Estado Cotiza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16286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querimiento Interno – Estado aprobado/pendiente de Compr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26080" y="825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querimiento Interno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472428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rden de Compra en Cu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-243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ministración G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mac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cepción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gramación Sector solici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990720"/>
            <a:ext cx="380880" cy="30456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685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mi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3" idx="2"/>
            <a:endCxn id="127" idx="0"/>
          </p:cNvCxnSpPr>
          <p:nvPr/>
        </p:nvCxnSpPr>
        <p:spPr>
          <a:xfrm>
            <a:off x="6819480" y="1278000"/>
            <a:ext cx="108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629400" y="1371600"/>
            <a:ext cx="380880" cy="30492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733920"/>
            <a:ext cx="304920" cy="30456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7339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191120"/>
            <a:ext cx="380880" cy="30456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791320"/>
            <a:ext cx="381240" cy="30456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3276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ac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648320"/>
            <a:ext cx="381240" cy="30456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2133720"/>
            <a:ext cx="38088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2666880"/>
            <a:ext cx="38088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27432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2"/>
            <a:endCxn id="123" idx="3"/>
          </p:cNvCxnSpPr>
          <p:nvPr/>
        </p:nvCxnSpPr>
        <p:spPr>
          <a:xfrm rot="5400000">
            <a:off x="7661520" y="384840"/>
            <a:ext cx="1069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8305920" y="3200400"/>
            <a:ext cx="38088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257800"/>
            <a:ext cx="304920" cy="30492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257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7913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rden de Pago cheque y retenciones im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685800"/>
            <a:ext cx="38088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4" idx="2"/>
            <a:endCxn id="135" idx="0"/>
          </p:cNvCxnSpPr>
          <p:nvPr/>
        </p:nvCxnSpPr>
        <p:spPr>
          <a:xfrm>
            <a:off x="6819480" y="248400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3429000" y="2743200"/>
            <a:ext cx="380880" cy="30492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380880" cy="30492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6" idx="1"/>
            <a:endCxn id="145" idx="0"/>
          </p:cNvCxnSpPr>
          <p:nvPr/>
        </p:nvCxnSpPr>
        <p:spPr>
          <a:xfrm rot="10800000">
            <a:off x="5218920" y="2742480"/>
            <a:ext cx="1486800" cy="138960"/>
          </a:xfrm>
          <a:prstGeom prst="bentConnector4">
            <a:avLst>
              <a:gd name="adj1" fmla="val 33858"/>
              <a:gd name="adj2" fmla="val 26545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rot="10800000">
            <a:off x="3580560" y="2742480"/>
            <a:ext cx="3087000" cy="138960"/>
          </a:xfrm>
          <a:prstGeom prst="bentConnector4">
            <a:avLst>
              <a:gd name="adj1" fmla="val 15372"/>
              <a:gd name="adj2" fmla="val 26545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80880" y="2743200"/>
            <a:ext cx="38124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334120" y="121932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2"/>
            <a:endCxn id="129" idx="0"/>
          </p:cNvCxnSpPr>
          <p:nvPr/>
        </p:nvCxnSpPr>
        <p:spPr>
          <a:xfrm flipH="1">
            <a:off x="533160" y="3093840"/>
            <a:ext cx="388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4" idx="1"/>
          </p:cNvCxnSpPr>
          <p:nvPr/>
        </p:nvCxnSpPr>
        <p:spPr>
          <a:xfrm flipV="1" rot="10800000">
            <a:off x="2247120" y="2323800"/>
            <a:ext cx="438228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1"/>
            <a:endCxn id="148" idx="3"/>
          </p:cNvCxnSpPr>
          <p:nvPr/>
        </p:nvCxnSpPr>
        <p:spPr>
          <a:xfrm flipH="1">
            <a:off x="761760" y="29332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057400" y="2743200"/>
            <a:ext cx="38088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39" idx="2"/>
            <a:endCxn id="130" idx="0"/>
          </p:cNvCxnSpPr>
          <p:nvPr/>
        </p:nvCxnSpPr>
        <p:spPr>
          <a:xfrm rot="5400000">
            <a:off x="4480200" y="175320"/>
            <a:ext cx="640440" cy="7392240"/>
          </a:xfrm>
          <a:prstGeom prst="bentConnector3">
            <a:avLst>
              <a:gd name="adj1" fmla="val 523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28" idx="2"/>
            <a:endCxn id="133" idx="0"/>
          </p:cNvCxnSpPr>
          <p:nvPr/>
        </p:nvCxnSpPr>
        <p:spPr>
          <a:xfrm>
            <a:off x="533520" y="4038480"/>
            <a:ext cx="388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0" idx="2"/>
            <a:endCxn id="133" idx="7"/>
          </p:cNvCxnSpPr>
          <p:nvPr/>
        </p:nvCxnSpPr>
        <p:spPr>
          <a:xfrm flipH="1">
            <a:off x="705600" y="4478040"/>
            <a:ext cx="3992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3" idx="4"/>
            <a:endCxn id="141" idx="0"/>
          </p:cNvCxnSpPr>
          <p:nvPr/>
        </p:nvCxnSpPr>
        <p:spPr>
          <a:xfrm flipH="1">
            <a:off x="533160" y="4952520"/>
            <a:ext cx="38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1" idx="2"/>
            <a:endCxn id="131" idx="0"/>
          </p:cNvCxnSpPr>
          <p:nvPr/>
        </p:nvCxnSpPr>
        <p:spPr>
          <a:xfrm>
            <a:off x="533520" y="5532120"/>
            <a:ext cx="3888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609480" y="685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33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3434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3580920" y="3048120"/>
            <a:ext cx="38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600200" y="2743200"/>
            <a:ext cx="304920" cy="30492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4"/>
          </p:cNvCxnSpPr>
          <p:nvPr/>
        </p:nvCxnSpPr>
        <p:spPr>
          <a:xfrm>
            <a:off x="1752120" y="30481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80880" y="64008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400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31" idx="2"/>
            <a:endCxn id="168" idx="0"/>
          </p:cNvCxnSpPr>
          <p:nvPr/>
        </p:nvCxnSpPr>
        <p:spPr>
          <a:xfrm flipH="1">
            <a:off x="533160" y="6078240"/>
            <a:ext cx="3888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27" idx="4"/>
            <a:endCxn id="134" idx="0"/>
          </p:cNvCxnSpPr>
          <p:nvPr/>
        </p:nvCxnSpPr>
        <p:spPr>
          <a:xfrm>
            <a:off x="6819480" y="16765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34" idx="0"/>
          </p:cNvCxnSpPr>
          <p:nvPr/>
        </p:nvCxnSpPr>
        <p:spPr>
          <a:xfrm>
            <a:off x="681948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1547640" y="191628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miento Interno de Deposito a Depo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797360"/>
            <a:ext cx="208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Carga de factura descarga de item  y cierre de O/C  registro de Cuenta Corriente Pro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429000"/>
            <a:ext cx="381240" cy="3808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3645000"/>
            <a:ext cx="28796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4581360"/>
            <a:ext cx="381240" cy="3049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3573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pción de Mercad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54920" y="162864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Recepción de Mercadería y descarga de Items de O/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14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miento Interno de Deposito a Centro de Co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2:44:50Z</dcterms:created>
  <dc:creator>Gabriel Dario Spinelli</dc:creator>
  <dc:description/>
  <dc:language>en-US</dc:language>
  <cp:lastModifiedBy>gabriel spinelli</cp:lastModifiedBy>
  <dcterms:modified xsi:type="dcterms:W3CDTF">2008-10-08T03:25:34Z</dcterms:modified>
  <cp:revision>3</cp:revision>
  <dc:subject/>
  <dc:title>Presentación de PowerPoint</dc:title>
</cp:coreProperties>
</file>